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A15-01E9-4F09-B43C-0822ECED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553-5A11-4208-BB6D-0738D3C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A8C-4B26-4D4B-8BC5-7ED6C7FA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B14-D048-4C4C-AA1D-12A5C6B8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272-6E93-47F8-B8A5-1204802C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02C-2A97-4B49-8217-366431D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1F1-4542-4DD6-AF20-823340C9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880-5899-4FF6-BF0A-3ACFD54A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D96-4EBC-4C53-A991-0E42D41F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627-25CB-412B-BDA0-F48F74C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96C-5ECB-4BA2-AE72-2FE9CF07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6D5-F1D7-49A5-96E8-5EE51740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DEBA-EE57-498B-A91E-EA3616DC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1692360" y="2517480"/>
            <a:ext cx="4589280" cy="1811520"/>
            <a:chOff x="1692360" y="2517480"/>
            <a:chExt cx="4589280" cy="1811520"/>
          </a:xfrm>
        </p:grpSpPr>
        <p:sp>
          <p:nvSpPr>
            <p:cNvPr id="42" name="Rectangle 4"/>
            <p:cNvSpPr/>
            <p:nvPr/>
          </p:nvSpPr>
          <p:spPr>
            <a:xfrm>
              <a:off x="3672000" y="2529000"/>
              <a:ext cx="1800000" cy="1800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5"/>
            <p:cNvSpPr/>
            <p:nvPr/>
          </p:nvSpPr>
          <p:spPr>
            <a:xfrm>
              <a:off x="1692360" y="2529000"/>
              <a:ext cx="1800000" cy="180000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10"/>
            <p:cNvGrpSpPr/>
            <p:nvPr/>
          </p:nvGrpSpPr>
          <p:grpSpPr>
            <a:xfrm>
              <a:off x="5560920" y="2517480"/>
              <a:ext cx="720720" cy="1801800"/>
              <a:chOff x="5560920" y="2517480"/>
              <a:chExt cx="720720" cy="1801800"/>
            </a:xfrm>
          </p:grpSpPr>
          <p:sp>
            <p:nvSpPr>
              <p:cNvPr id="45" name="Line 6"/>
              <p:cNvSpPr/>
              <p:nvPr/>
            </p:nvSpPr>
            <p:spPr>
              <a:xfrm flipV="1">
                <a:off x="6137280" y="2517480"/>
                <a:ext cx="0" cy="180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7"/>
              <p:cNvSpPr/>
              <p:nvPr/>
            </p:nvSpPr>
            <p:spPr>
              <a:xfrm>
                <a:off x="5560920" y="4319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8"/>
              <p:cNvSpPr/>
              <p:nvPr/>
            </p:nvSpPr>
            <p:spPr>
              <a:xfrm>
                <a:off x="5560920" y="25174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9"/>
              <p:cNvSpPr/>
              <p:nvPr/>
            </p:nvSpPr>
            <p:spPr>
              <a:xfrm rot="16200000">
                <a:off x="5608440" y="323820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Line 11"/>
            <p:cNvSpPr/>
            <p:nvPr/>
          </p:nvSpPr>
          <p:spPr>
            <a:xfrm flipH="1">
              <a:off x="2555640" y="3429000"/>
              <a:ext cx="3095640" cy="0"/>
            </a:xfrm>
            <a:prstGeom prst="line">
              <a:avLst/>
            </a:prstGeom>
            <a:ln w="127080">
              <a:solidFill>
                <a:srgbClr val="00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51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ポスト処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シミュレーショ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加工定義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ＣＡＤデータの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図面の検討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08000" y="911160"/>
            <a:ext cx="9691560" cy="5035680"/>
            <a:chOff x="108000" y="911160"/>
            <a:chExt cx="9691560" cy="5035680"/>
          </a:xfrm>
        </p:grpSpPr>
        <p:sp>
          <p:nvSpPr>
            <p:cNvPr id="84" name=""/>
            <p:cNvSpPr/>
            <p:nvPr/>
          </p:nvSpPr>
          <p:spPr>
            <a:xfrm flipH="1">
              <a:off x="32824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388960" y="343692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063760" y="341784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169880" y="34275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5480" y="2133720"/>
              <a:ext cx="0" cy="2590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89120" y="2131200"/>
              <a:ext cx="0" cy="2590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25480" y="471636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535040" y="472284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814320" y="2131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525320" y="213984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57000" y="3438360"/>
              <a:ext cx="153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98480" y="3436920"/>
              <a:ext cx="154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3708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、取付け具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の取付け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072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18000" y="247176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7164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672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1640" y="1177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素材データの登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71640" y="3760920"/>
              <a:ext cx="576000" cy="191268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94">
                  <a:moveTo>
                    <a:pt x="3600" y="0"/>
                  </a:moveTo>
                  <a:arcTo wR="3600" hR="3600" stAng="16200000" swAng="-5400000"/>
                  <a:lnTo>
                    <a:pt x="0" y="68094"/>
                  </a:lnTo>
                  <a:arcTo wR="3600" hR="3600" stAng="10800000" swAng="-5400000"/>
                  <a:lnTo>
                    <a:pt x="18000" y="716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247176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01164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8496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入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94800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1680" y="2482920"/>
              <a:ext cx="576000" cy="19130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708">
                  <a:moveTo>
                    <a:pt x="3600" y="0"/>
                  </a:moveTo>
                  <a:arcTo wR="3600" hR="3600" stAng="16200000" swAng="-5400000"/>
                  <a:lnTo>
                    <a:pt x="0" y="68108"/>
                  </a:lnTo>
                  <a:arcTo wR="3600" hR="3600" stAng="10800000" swAng="-5400000"/>
                  <a:lnTo>
                    <a:pt x="18000" y="7170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試し削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895880" y="344016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69200" y="2494080"/>
              <a:ext cx="576360" cy="191268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2680"/>
                <a:gd name="textAreaBottom" fmla="*/ 1884600 h 1912680"/>
              </a:gdLst>
              <a:ahLst/>
              <a:rect l="textAreaLeft" t="textAreaTop" r="textAreaRight" b="textAreaBottom"/>
              <a:pathLst>
                <a:path w="21600" h="71649">
                  <a:moveTo>
                    <a:pt x="3600" y="0"/>
                  </a:moveTo>
                  <a:arcTo wR="3600" hR="3600" stAng="16200000" swAng="-5400000"/>
                  <a:lnTo>
                    <a:pt x="0" y="68049"/>
                  </a:lnTo>
                  <a:arcTo wR="3600" hR="3600" stAng="10800000" swAng="-5400000"/>
                  <a:lnTo>
                    <a:pt x="18000" y="716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工具補正及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データ等の修正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849880" y="3429000"/>
              <a:ext cx="36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3200" y="2482920"/>
              <a:ext cx="576360" cy="1913040"/>
            </a:xfrm>
            <a:custGeom>
              <a:avLst/>
              <a:gdLst>
                <a:gd name="textAreaLeft" fmla="*/ 28080 w 576360"/>
                <a:gd name="textAreaRight" fmla="*/ 548280 w 576360"/>
                <a:gd name="textAreaTop" fmla="*/ 28080 h 1913040"/>
                <a:gd name="textAreaBottom" fmla="*/ 1884960 h 1913040"/>
              </a:gdLst>
              <a:ahLst/>
              <a:rect l="textAreaLeft" t="textAreaTop" r="textAreaRight" b="textAreaBottom"/>
              <a:pathLst>
                <a:path w="21600" h="71663">
                  <a:moveTo>
                    <a:pt x="3600" y="0"/>
                  </a:moveTo>
                  <a:arcTo wR="3600" hR="3600" stAng="16200000" swAng="-5400000"/>
                  <a:lnTo>
                    <a:pt x="0" y="68063"/>
                  </a:lnTo>
                  <a:arcTo wR="3600" hR="3600" stAng="10800000" swAng="-5400000"/>
                  <a:lnTo>
                    <a:pt x="18000" y="7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500" spc="-1" strike="noStrike">
                  <a:solidFill>
                    <a:srgbClr val="000000"/>
                  </a:solidFill>
                  <a:latin typeface="Arial"/>
                </a:rPr>
                <a:t>本切削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5640" y="911160"/>
              <a:ext cx="4464000" cy="5035680"/>
            </a:xfrm>
            <a:prstGeom prst="rect">
              <a:avLst/>
            </a:prstGeom>
            <a:noFill/>
            <a:ln cap="rnd" w="63360">
              <a:solidFill>
                <a:srgbClr val="ff66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92720" y="911160"/>
              <a:ext cx="3743280" cy="5035680"/>
            </a:xfrm>
            <a:prstGeom prst="rect">
              <a:avLst/>
            </a:prstGeom>
            <a:noFill/>
            <a:ln cap="rnd" w="633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19280" y="5300640"/>
              <a:ext cx="36003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ＣＡＭシステムを利用したプログラミン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12000" y="5300640"/>
              <a:ext cx="1149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段取り作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042920" y="260280"/>
            <a:ext cx="144000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2627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179280" y="728640"/>
            <a:ext cx="719280" cy="719280"/>
          </a:xfrm>
          <a:prstGeom prst="ellips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539640" y="10875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977080" y="0"/>
            <a:ext cx="3166920" cy="2025720"/>
            <a:chOff x="5977080" y="0"/>
            <a:chExt cx="3166920" cy="2025720"/>
          </a:xfrm>
        </p:grpSpPr>
        <p:sp>
          <p:nvSpPr>
            <p:cNvPr id="121" name="Rectangle 4"/>
            <p:cNvSpPr/>
            <p:nvPr/>
          </p:nvSpPr>
          <p:spPr>
            <a:xfrm>
              <a:off x="6840720" y="11772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8425080" y="58608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"/>
            <p:cNvSpPr/>
            <p:nvPr/>
          </p:nvSpPr>
          <p:spPr>
            <a:xfrm>
              <a:off x="5977080" y="58608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 flipH="1">
              <a:off x="6337440" y="94464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5977080" y="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"/>
            <p:cNvSpPr/>
            <p:nvPr/>
          </p:nvSpPr>
          <p:spPr>
            <a:xfrm>
              <a:off x="8425080" y="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H="1">
              <a:off x="6337440" y="35892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337440" y="37008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6"/>
            <p:cNvSpPr/>
            <p:nvPr/>
          </p:nvSpPr>
          <p:spPr>
            <a:xfrm>
              <a:off x="6840720" y="18813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684072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8282160" y="130500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7281360" y="151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6697800" y="108900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6337440" y="188136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6267960" y="1513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97800" y="18813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334600" y="2060640"/>
            <a:ext cx="3819960" cy="2736720"/>
            <a:chOff x="2334600" y="2060640"/>
            <a:chExt cx="3819960" cy="2736720"/>
          </a:xfrm>
        </p:grpSpPr>
        <p:sp>
          <p:nvSpPr>
            <p:cNvPr id="138" name="Rectangle 4"/>
            <p:cNvSpPr/>
            <p:nvPr/>
          </p:nvSpPr>
          <p:spPr>
            <a:xfrm>
              <a:off x="3851280" y="2889360"/>
              <a:ext cx="1440000" cy="10792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"/>
            <p:cNvSpPr/>
            <p:nvPr/>
          </p:nvSpPr>
          <p:spPr>
            <a:xfrm>
              <a:off x="5435640" y="3357720"/>
              <a:ext cx="71892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"/>
            <p:cNvSpPr/>
            <p:nvPr/>
          </p:nvSpPr>
          <p:spPr>
            <a:xfrm>
              <a:off x="2987640" y="3357720"/>
              <a:ext cx="719280" cy="71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3348000" y="371628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"/>
            <p:cNvSpPr/>
            <p:nvPr/>
          </p:nvSpPr>
          <p:spPr>
            <a:xfrm>
              <a:off x="2987640" y="2771640"/>
              <a:ext cx="71928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5435640" y="2771640"/>
              <a:ext cx="718920" cy="719280"/>
            </a:xfrm>
            <a:prstGeom prst="ellipse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1"/>
            <p:cNvSpPr/>
            <p:nvPr/>
          </p:nvSpPr>
          <p:spPr>
            <a:xfrm flipH="1">
              <a:off x="3348000" y="3130560"/>
              <a:ext cx="2448000" cy="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348000" y="3141720"/>
              <a:ext cx="0" cy="57456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3851280" y="465300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>
              <a:off x="385128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5292720" y="4076640"/>
              <a:ext cx="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9"/>
            <p:cNvSpPr/>
            <p:nvPr/>
          </p:nvSpPr>
          <p:spPr>
            <a:xfrm>
              <a:off x="4291920" y="42854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370836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3348000" y="465300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327852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836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5438880" y="3860640"/>
              <a:ext cx="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"/>
            <p:cNvSpPr/>
            <p:nvPr/>
          </p:nvSpPr>
          <p:spPr>
            <a:xfrm>
              <a:off x="5435640" y="4646520"/>
              <a:ext cx="35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5569200" y="428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6240" y="4653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"/>
            <p:cNvSpPr/>
            <p:nvPr/>
          </p:nvSpPr>
          <p:spPr>
            <a:xfrm>
              <a:off x="3852720" y="3321000"/>
              <a:ext cx="1440000" cy="2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334600" y="3129120"/>
              <a:ext cx="942120" cy="618840"/>
              <a:chOff x="2334600" y="3129120"/>
              <a:chExt cx="942120" cy="618840"/>
            </a:xfrm>
          </p:grpSpPr>
          <p:sp>
            <p:nvSpPr>
              <p:cNvPr id="160" name="Line 6"/>
              <p:cNvSpPr/>
              <p:nvPr/>
            </p:nvSpPr>
            <p:spPr>
              <a:xfrm>
                <a:off x="2700360" y="3129120"/>
                <a:ext cx="0" cy="618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7"/>
              <p:cNvSpPr/>
              <p:nvPr/>
            </p:nvSpPr>
            <p:spPr>
              <a:xfrm flipH="1">
                <a:off x="2556000" y="312912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8"/>
              <p:cNvSpPr/>
              <p:nvPr/>
            </p:nvSpPr>
            <p:spPr>
              <a:xfrm flipH="1">
                <a:off x="2556000" y="373536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9"/>
              <p:cNvSpPr/>
              <p:nvPr/>
            </p:nvSpPr>
            <p:spPr>
              <a:xfrm rot="16200000">
                <a:off x="2301840" y="3245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23160" y="2066040"/>
              <a:ext cx="433800" cy="942120"/>
              <a:chOff x="3323160" y="2066040"/>
              <a:chExt cx="433800" cy="942120"/>
            </a:xfrm>
          </p:grpSpPr>
          <p:sp>
            <p:nvSpPr>
              <p:cNvPr id="165" name="Line 6"/>
              <p:cNvSpPr/>
              <p:nvPr/>
            </p:nvSpPr>
            <p:spPr>
              <a:xfrm flipH="1">
                <a:off x="334764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7"/>
              <p:cNvSpPr/>
              <p:nvPr/>
            </p:nvSpPr>
            <p:spPr>
              <a:xfrm flipV="1">
                <a:off x="372096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8"/>
              <p:cNvSpPr/>
              <p:nvPr/>
            </p:nvSpPr>
            <p:spPr>
              <a:xfrm flipV="1">
                <a:off x="33606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9"/>
              <p:cNvSpPr/>
              <p:nvPr/>
            </p:nvSpPr>
            <p:spPr>
              <a:xfrm>
                <a:off x="332316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398200" y="2066040"/>
              <a:ext cx="433800" cy="942120"/>
              <a:chOff x="5398200" y="2066040"/>
              <a:chExt cx="433800" cy="942120"/>
            </a:xfrm>
          </p:grpSpPr>
          <p:sp>
            <p:nvSpPr>
              <p:cNvPr id="170" name="Line 6"/>
              <p:cNvSpPr/>
              <p:nvPr/>
            </p:nvSpPr>
            <p:spPr>
              <a:xfrm flipH="1">
                <a:off x="5422680" y="2432160"/>
                <a:ext cx="374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 flipV="1">
                <a:off x="579600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V="1">
                <a:off x="5435640" y="2287440"/>
                <a:ext cx="0" cy="72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9"/>
              <p:cNvSpPr/>
              <p:nvPr/>
            </p:nvSpPr>
            <p:spPr>
              <a:xfrm>
                <a:off x="5398200" y="206604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851280" y="2060640"/>
              <a:ext cx="1438200" cy="647640"/>
            </a:xfrm>
            <a:prstGeom prst="wedgeRectCallout">
              <a:avLst>
                <a:gd name="adj1" fmla="val 44370"/>
                <a:gd name="adj2" fmla="val 141912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オーバーラップ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m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803280" y="-243000"/>
            <a:ext cx="3242160" cy="3019320"/>
            <a:chOff x="6803280" y="-243000"/>
            <a:chExt cx="3242160" cy="3019320"/>
          </a:xfrm>
        </p:grpSpPr>
        <p:sp>
          <p:nvSpPr>
            <p:cNvPr id="176" name="Line 6"/>
            <p:cNvSpPr/>
            <p:nvPr/>
          </p:nvSpPr>
          <p:spPr>
            <a:xfrm flipV="1">
              <a:off x="9901080" y="83160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7"/>
            <p:cNvSpPr/>
            <p:nvPr/>
          </p:nvSpPr>
          <p:spPr>
            <a:xfrm>
              <a:off x="9324720" y="22636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9324720" y="83304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 rot="16200000">
              <a:off x="9509040" y="1366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"/>
            <p:cNvSpPr/>
            <p:nvPr/>
          </p:nvSpPr>
          <p:spPr>
            <a:xfrm>
              <a:off x="7812000" y="83160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7668360" y="144828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5400000">
              <a:off x="8080200" y="-15084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806520" y="183960"/>
              <a:ext cx="1726200" cy="1008000"/>
              <a:chOff x="6806520" y="183960"/>
              <a:chExt cx="1726200" cy="1008000"/>
            </a:xfrm>
          </p:grpSpPr>
          <p:sp>
            <p:nvSpPr>
              <p:cNvPr id="184" name="Line 7"/>
              <p:cNvSpPr/>
              <p:nvPr/>
            </p:nvSpPr>
            <p:spPr>
              <a:xfrm flipH="1">
                <a:off x="7020000" y="8316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7"/>
              <p:cNvSpPr/>
              <p:nvPr/>
            </p:nvSpPr>
            <p:spPr>
              <a:xfrm flipH="1">
                <a:off x="7020000" y="68868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"/>
              <p:cNvSpPr/>
              <p:nvPr/>
            </p:nvSpPr>
            <p:spPr>
              <a:xfrm>
                <a:off x="7164360" y="18396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9"/>
              <p:cNvSpPr/>
              <p:nvPr/>
            </p:nvSpPr>
            <p:spPr>
              <a:xfrm rot="16200000">
                <a:off x="6837120" y="155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64360" y="68868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"/>
              <p:cNvSpPr/>
              <p:nvPr/>
            </p:nvSpPr>
            <p:spPr>
              <a:xfrm>
                <a:off x="7164360" y="83952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7"/>
            <p:cNvSpPr/>
            <p:nvPr/>
          </p:nvSpPr>
          <p:spPr>
            <a:xfrm flipH="1">
              <a:off x="7016760" y="241596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7016400" y="227304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7161120" y="176832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 rot="16200000">
              <a:off x="6833880" y="1739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1120" y="227304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7161120" y="242388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842560" y="1633680"/>
            <a:ext cx="3242160" cy="3388680"/>
            <a:chOff x="2842560" y="1633680"/>
            <a:chExt cx="3242160" cy="3388680"/>
          </a:xfrm>
        </p:grpSpPr>
        <p:sp>
          <p:nvSpPr>
            <p:cNvPr id="197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119480" y="1725480"/>
              <a:ext cx="904680" cy="72072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45800" y="2060640"/>
              <a:ext cx="1726200" cy="1008000"/>
              <a:chOff x="2845800" y="2060640"/>
              <a:chExt cx="1726200" cy="1008000"/>
            </a:xfrm>
          </p:grpSpPr>
          <p:sp>
            <p:nvSpPr>
              <p:cNvPr id="205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 flipH="1">
                <a:off x="3059280" y="2565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6"/>
              <p:cNvSpPr/>
              <p:nvPr/>
            </p:nvSpPr>
            <p:spPr>
              <a:xfrm>
                <a:off x="3203640" y="2060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 rot="16200000">
                <a:off x="2876400" y="2032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203640" y="256536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2842560" y="1341360"/>
            <a:ext cx="3242160" cy="3681000"/>
            <a:chOff x="2842560" y="1341360"/>
            <a:chExt cx="3242160" cy="3681000"/>
          </a:xfrm>
        </p:grpSpPr>
        <p:sp>
          <p:nvSpPr>
            <p:cNvPr id="223" name="Line 6"/>
            <p:cNvSpPr/>
            <p:nvPr/>
          </p:nvSpPr>
          <p:spPr>
            <a:xfrm flipV="1">
              <a:off x="5940360" y="2708280"/>
              <a:ext cx="0" cy="144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"/>
            <p:cNvSpPr/>
            <p:nvPr/>
          </p:nvSpPr>
          <p:spPr>
            <a:xfrm>
              <a:off x="5364000" y="414036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>
              <a:off x="5364000" y="27097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9"/>
            <p:cNvSpPr/>
            <p:nvPr/>
          </p:nvSpPr>
          <p:spPr>
            <a:xfrm rot="16200000">
              <a:off x="5548320" y="3242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851280" y="2708280"/>
              <a:ext cx="1440000" cy="1441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3707640" y="3324960"/>
              <a:ext cx="1728720" cy="7207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72" y="0"/>
                  </a:lnTo>
                  <a:lnTo>
                    <a:pt x="21600" y="10800"/>
                  </a:lnTo>
                  <a:lnTo>
                    <a:pt x="184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4119480" y="1433520"/>
              <a:ext cx="905040" cy="72072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044" y="0"/>
                  </a:lnTo>
                  <a:lnTo>
                    <a:pt x="21600" y="10800"/>
                  </a:lnTo>
                  <a:lnTo>
                    <a:pt x="15044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845800" y="1763640"/>
              <a:ext cx="1726200" cy="1305000"/>
              <a:chOff x="2845800" y="1763640"/>
              <a:chExt cx="1726200" cy="1305000"/>
            </a:xfrm>
          </p:grpSpPr>
          <p:sp>
            <p:nvSpPr>
              <p:cNvPr id="231" name="Line 7"/>
              <p:cNvSpPr/>
              <p:nvPr/>
            </p:nvSpPr>
            <p:spPr>
              <a:xfrm flipH="1">
                <a:off x="3059280" y="2708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 flipH="1">
                <a:off x="3059280" y="2268360"/>
                <a:ext cx="15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"/>
              <p:cNvSpPr/>
              <p:nvPr/>
            </p:nvSpPr>
            <p:spPr>
              <a:xfrm>
                <a:off x="3203640" y="1763640"/>
                <a:ext cx="0" cy="496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9"/>
              <p:cNvSpPr/>
              <p:nvPr/>
            </p:nvSpPr>
            <p:spPr>
              <a:xfrm rot="16200000">
                <a:off x="2876400" y="17348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03640" y="22766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6"/>
              <p:cNvSpPr/>
              <p:nvPr/>
            </p:nvSpPr>
            <p:spPr>
              <a:xfrm>
                <a:off x="3203640" y="2716200"/>
                <a:ext cx="0" cy="35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Line 7"/>
            <p:cNvSpPr/>
            <p:nvPr/>
          </p:nvSpPr>
          <p:spPr>
            <a:xfrm flipH="1">
              <a:off x="3056040" y="429264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 flipH="1">
              <a:off x="3055680" y="4149720"/>
              <a:ext cx="72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"/>
            <p:cNvSpPr/>
            <p:nvPr/>
          </p:nvSpPr>
          <p:spPr>
            <a:xfrm>
              <a:off x="3200400" y="3645000"/>
              <a:ext cx="0" cy="49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9"/>
            <p:cNvSpPr/>
            <p:nvPr/>
          </p:nvSpPr>
          <p:spPr>
            <a:xfrm rot="16200000">
              <a:off x="2873160" y="3616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414972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>
              <a:off x="3200400" y="430056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 flipH="1">
              <a:off x="3416400" y="4576680"/>
              <a:ext cx="1084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9"/>
            <p:cNvSpPr/>
            <p:nvPr/>
          </p:nvSpPr>
          <p:spPr>
            <a:xfrm rot="16200000">
              <a:off x="3222000" y="467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60760" y="4292640"/>
              <a:ext cx="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3560760" y="4584600"/>
              <a:ext cx="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>
              <a:off x="3559320" y="4005360"/>
              <a:ext cx="0" cy="28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69920" y="3059280"/>
            <a:ext cx="7208640" cy="1809720"/>
            <a:chOff x="169920" y="3059280"/>
            <a:chExt cx="7208640" cy="1809720"/>
          </a:xfrm>
        </p:grpSpPr>
        <p:sp>
          <p:nvSpPr>
            <p:cNvPr id="249" name=""/>
            <p:cNvSpPr/>
            <p:nvPr/>
          </p:nvSpPr>
          <p:spPr>
            <a:xfrm>
              <a:off x="896760" y="3429000"/>
              <a:ext cx="3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7820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5748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3856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964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00720" y="3429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000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604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712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820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99280" y="4510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920" y="305928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5892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40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9000" y="306864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0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972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59640" y="306864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5892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0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4149720"/>
              <a:ext cx="71928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0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972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59640" y="4149720"/>
              <a:ext cx="718920" cy="719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971640" y="549360"/>
            <a:ext cx="7202520" cy="1800000"/>
            <a:chOff x="971640" y="549360"/>
            <a:chExt cx="7202520" cy="1800000"/>
          </a:xfrm>
        </p:grpSpPr>
        <p:sp>
          <p:nvSpPr>
            <p:cNvPr id="275" name=""/>
            <p:cNvSpPr/>
            <p:nvPr/>
          </p:nvSpPr>
          <p:spPr>
            <a:xfrm>
              <a:off x="16891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702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4984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9272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3092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738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1200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5488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93080" y="90972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5416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9236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35240" y="163044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34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020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128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2912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7236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020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53440" y="163044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91280" y="19908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32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1000" y="549360"/>
              <a:ext cx="71928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0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1640" y="549360"/>
              <a:ext cx="71892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4:38:10Z</dcterms:created>
  <dc:creator>ポリテクセンター静岡</dc:creator>
  <dc:description/>
  <dc:language>en-US</dc:language>
  <cp:lastModifiedBy>ポリテクセンター静岡</cp:lastModifiedBy>
  <dcterms:modified xsi:type="dcterms:W3CDTF">2011-08-01T04:19:17Z</dcterms:modified>
  <cp:revision>21</cp:revision>
  <dc:subject/>
  <dc:title>スライド 1</dc:title>
</cp:coreProperties>
</file>