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B50-9ADA-4295-A6B7-0A37C3BC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143-F0F3-40AC-BF0E-3088F7CB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7D3-E1AC-4000-A0BE-EC5EB4B5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2FE-F347-4F7B-A36B-171DD163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06E-FC9B-43B6-A5B0-02FB7919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F16-28AA-4183-90B7-4F3997B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ECC-92B5-4144-8F98-48D2F92D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8B2-7216-490F-BCD5-258F8AC6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838-3656-48B0-896C-70D9C08C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145-56B8-4081-BCC5-4D8D707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ED7-690B-4D5F-BC93-F955D63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2BE-A3F5-4A0C-8F7B-FAFD4A8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E5E-6364-4131-AB5D-D00BC83A7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116000" y="671400"/>
          <a:ext cx="655308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71400"/>
                    <a:ext cx="655308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23202" t="0" r="23218" b="0"/>
          <a:stretch/>
        </p:blipFill>
        <p:spPr>
          <a:xfrm>
            <a:off x="1571760" y="-189000"/>
            <a:ext cx="6000480" cy="72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4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3:25:51Z</dcterms:created>
  <dc:creator>テクニカルマネジメント07</dc:creator>
  <dc:description/>
  <dc:language>en-US</dc:language>
  <cp:lastModifiedBy>mcad12</cp:lastModifiedBy>
  <dcterms:modified xsi:type="dcterms:W3CDTF">2011-07-11T03:06:44Z</dcterms:modified>
  <cp:revision>12</cp:revision>
  <dc:subject/>
  <dc:title>スライド 1</dc:title>
</cp:coreProperties>
</file>