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2266-9D14-43CF-B8DD-34369A3A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B249-6830-46B0-BD7A-E0D7CC9A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107-36BA-4D39-B3C8-83B4D832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13B5-59E7-4BB6-B304-57C1A6F9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51C-A420-4BB3-B21B-5C90C6A3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F3B-7E76-423F-9980-7638CB0E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51F-0CFF-46FF-B4EA-62E2B0AB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5E87-37C4-4517-878E-0BA7F3C3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BAA-5855-44EF-A749-1BDF197C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4DB-DF9F-4B82-BB34-D6D6DEB3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5F97-0A27-4A5F-8F22-4DA0D6ED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FA1A-638A-4EBD-BD1E-CE0CF8AB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5602-5377-4EF1-8E06-2AA6B9509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2"/>
          <p:cNvGrpSpPr/>
          <p:nvPr/>
        </p:nvGrpSpPr>
        <p:grpSpPr>
          <a:xfrm>
            <a:off x="1692360" y="2517480"/>
            <a:ext cx="4589280" cy="1811520"/>
            <a:chOff x="1692360" y="2517480"/>
            <a:chExt cx="4589280" cy="1811520"/>
          </a:xfrm>
        </p:grpSpPr>
        <p:sp>
          <p:nvSpPr>
            <p:cNvPr id="42" name="Rectangle 4"/>
            <p:cNvSpPr/>
            <p:nvPr/>
          </p:nvSpPr>
          <p:spPr>
            <a:xfrm>
              <a:off x="3672000" y="2529000"/>
              <a:ext cx="1800000" cy="18000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5"/>
            <p:cNvSpPr/>
            <p:nvPr/>
          </p:nvSpPr>
          <p:spPr>
            <a:xfrm>
              <a:off x="1692360" y="2529000"/>
              <a:ext cx="1800000" cy="180000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10"/>
            <p:cNvGrpSpPr/>
            <p:nvPr/>
          </p:nvGrpSpPr>
          <p:grpSpPr>
            <a:xfrm>
              <a:off x="5560920" y="2517480"/>
              <a:ext cx="720720" cy="1801800"/>
              <a:chOff x="5560920" y="2517480"/>
              <a:chExt cx="720720" cy="1801800"/>
            </a:xfrm>
          </p:grpSpPr>
          <p:sp>
            <p:nvSpPr>
              <p:cNvPr id="45" name="Line 6"/>
              <p:cNvSpPr/>
              <p:nvPr/>
            </p:nvSpPr>
            <p:spPr>
              <a:xfrm flipV="1">
                <a:off x="6137280" y="2517480"/>
                <a:ext cx="0" cy="180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Line 7"/>
              <p:cNvSpPr/>
              <p:nvPr/>
            </p:nvSpPr>
            <p:spPr>
              <a:xfrm>
                <a:off x="5560920" y="431928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Line 8"/>
              <p:cNvSpPr/>
              <p:nvPr/>
            </p:nvSpPr>
            <p:spPr>
              <a:xfrm>
                <a:off x="5560920" y="251748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 Box 9"/>
              <p:cNvSpPr/>
              <p:nvPr/>
            </p:nvSpPr>
            <p:spPr>
              <a:xfrm rot="16200000">
                <a:off x="5608440" y="323820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Line 11"/>
            <p:cNvSpPr/>
            <p:nvPr/>
          </p:nvSpPr>
          <p:spPr>
            <a:xfrm flipH="1">
              <a:off x="2555640" y="3429000"/>
              <a:ext cx="3095640" cy="0"/>
            </a:xfrm>
            <a:prstGeom prst="line">
              <a:avLst/>
            </a:prstGeom>
            <a:ln w="127080">
              <a:solidFill>
                <a:srgbClr val="000000"/>
              </a:solidFill>
              <a:prstDash val="sysDot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08000" y="911160"/>
            <a:ext cx="9691560" cy="5035680"/>
            <a:chOff x="108000" y="911160"/>
            <a:chExt cx="9691560" cy="5035680"/>
          </a:xfrm>
        </p:grpSpPr>
        <p:sp>
          <p:nvSpPr>
            <p:cNvPr id="51" name=""/>
            <p:cNvSpPr/>
            <p:nvPr/>
          </p:nvSpPr>
          <p:spPr>
            <a:xfrm flipH="1">
              <a:off x="3282480" y="342756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388960" y="343692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063760" y="341784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169880" y="342756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5480" y="2133720"/>
              <a:ext cx="0" cy="2590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89120" y="2131200"/>
              <a:ext cx="0" cy="2590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825480" y="471636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1535040" y="472284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814320" y="213192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25320" y="2139840"/>
              <a:ext cx="153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657000" y="3438360"/>
              <a:ext cx="153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698480" y="343692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3708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、取付け具等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の取付け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00720" y="247176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ポスト処理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18000" y="247176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シミュレーション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7164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加工定義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3672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ＣＡＤデータの入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71640" y="117792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素材データの登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71640" y="3760920"/>
              <a:ext cx="576000" cy="191268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2680"/>
                <a:gd name="textAreaBottom" fmla="*/ 1884600 h 1912680"/>
              </a:gdLst>
              <a:ahLst/>
              <a:rect l="textAreaLeft" t="textAreaTop" r="textAreaRight" b="textAreaBottom"/>
              <a:pathLst>
                <a:path w="21600" h="71694">
                  <a:moveTo>
                    <a:pt x="3600" y="0"/>
                  </a:moveTo>
                  <a:arcTo wR="3600" hR="3600" stAng="16200000" swAng="-5400000"/>
                  <a:lnTo>
                    <a:pt x="0" y="68094"/>
                  </a:lnTo>
                  <a:arcTo wR="3600" hR="3600" stAng="10800000" swAng="-5400000"/>
                  <a:lnTo>
                    <a:pt x="18000" y="716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データの登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800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図面の検討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011640" y="342900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84960" y="248292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補正入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6948000" y="342900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21680" y="248292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試し削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895880" y="344016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269200" y="2494080"/>
              <a:ext cx="576360" cy="191268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2680"/>
                <a:gd name="textAreaBottom" fmla="*/ 1884600 h 1912680"/>
              </a:gdLst>
              <a:ahLst/>
              <a:rect l="textAreaLeft" t="textAreaTop" r="textAreaRight" b="textAreaBottom"/>
              <a:pathLst>
                <a:path w="21600" h="71649">
                  <a:moveTo>
                    <a:pt x="3600" y="0"/>
                  </a:moveTo>
                  <a:arcTo wR="3600" hR="3600" stAng="16200000" swAng="-5400000"/>
                  <a:lnTo>
                    <a:pt x="0" y="68049"/>
                  </a:lnTo>
                  <a:arcTo wR="3600" hR="3600" stAng="10800000" swAng="-5400000"/>
                  <a:lnTo>
                    <a:pt x="18000" y="716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補正及び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データ等の修正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8849880" y="342900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0" y="248292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本切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5640" y="911160"/>
              <a:ext cx="4464000" cy="5035680"/>
            </a:xfrm>
            <a:prstGeom prst="rect">
              <a:avLst/>
            </a:prstGeom>
            <a:noFill/>
            <a:ln cap="rnd" w="6336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92720" y="911160"/>
              <a:ext cx="3743280" cy="5035680"/>
            </a:xfrm>
            <a:prstGeom prst="rect">
              <a:avLst/>
            </a:prstGeom>
            <a:noFill/>
            <a:ln cap="rnd" w="633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19280" y="5300640"/>
              <a:ext cx="3600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ＣＡＭシステムを利用したプログラミン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12000" y="5300640"/>
              <a:ext cx="11494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段取り作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08000" y="911160"/>
            <a:ext cx="9691560" cy="5035680"/>
            <a:chOff x="108000" y="911160"/>
            <a:chExt cx="9691560" cy="5035680"/>
          </a:xfrm>
        </p:grpSpPr>
        <p:sp>
          <p:nvSpPr>
            <p:cNvPr id="84" name=""/>
            <p:cNvSpPr/>
            <p:nvPr/>
          </p:nvSpPr>
          <p:spPr>
            <a:xfrm flipH="1">
              <a:off x="3282480" y="342756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2388960" y="343692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63760" y="341784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169880" y="342756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25480" y="2133720"/>
              <a:ext cx="0" cy="2590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89120" y="2131200"/>
              <a:ext cx="0" cy="2590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825480" y="471636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535040" y="472284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814320" y="213192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525320" y="2139840"/>
              <a:ext cx="153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57000" y="3438360"/>
              <a:ext cx="153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698480" y="343692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3708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、取付け具等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の取付け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00720" y="247176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18000" y="247176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⑤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7164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3672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71640" y="117792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素材データの登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71640" y="3760920"/>
              <a:ext cx="576000" cy="191268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2680"/>
                <a:gd name="textAreaBottom" fmla="*/ 1884600 h 1912680"/>
              </a:gdLst>
              <a:ahLst/>
              <a:rect l="textAreaLeft" t="textAreaTop" r="textAreaRight" b="textAreaBottom"/>
              <a:pathLst>
                <a:path w="21600" h="71694">
                  <a:moveTo>
                    <a:pt x="3600" y="0"/>
                  </a:moveTo>
                  <a:arcTo wR="3600" hR="3600" stAng="16200000" swAng="-5400000"/>
                  <a:lnTo>
                    <a:pt x="0" y="68094"/>
                  </a:lnTo>
                  <a:arcTo wR="3600" hR="3600" stAng="10800000" swAng="-5400000"/>
                  <a:lnTo>
                    <a:pt x="18000" y="716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800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011640" y="342900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84960" y="248292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補正入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948000" y="342900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21680" y="248292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試し削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895880" y="344016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69200" y="2494080"/>
              <a:ext cx="576360" cy="191268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2680"/>
                <a:gd name="textAreaBottom" fmla="*/ 1884600 h 1912680"/>
              </a:gdLst>
              <a:ahLst/>
              <a:rect l="textAreaLeft" t="textAreaTop" r="textAreaRight" b="textAreaBottom"/>
              <a:pathLst>
                <a:path w="21600" h="71649">
                  <a:moveTo>
                    <a:pt x="3600" y="0"/>
                  </a:moveTo>
                  <a:arcTo wR="3600" hR="3600" stAng="16200000" swAng="-5400000"/>
                  <a:lnTo>
                    <a:pt x="0" y="68049"/>
                  </a:lnTo>
                  <a:arcTo wR="3600" hR="3600" stAng="10800000" swAng="-5400000"/>
                  <a:lnTo>
                    <a:pt x="18000" y="716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補正及び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データ等の修正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8849880" y="342900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223200" y="248292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本切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5640" y="911160"/>
              <a:ext cx="4464000" cy="5035680"/>
            </a:xfrm>
            <a:prstGeom prst="rect">
              <a:avLst/>
            </a:prstGeom>
            <a:noFill/>
            <a:ln cap="rnd" w="6336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92720" y="911160"/>
              <a:ext cx="3743280" cy="5035680"/>
            </a:xfrm>
            <a:prstGeom prst="rect">
              <a:avLst/>
            </a:prstGeom>
            <a:noFill/>
            <a:ln cap="rnd" w="633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19280" y="5300640"/>
              <a:ext cx="3600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ＣＡＭシステムを利用したプログラミン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812000" y="5300640"/>
              <a:ext cx="11494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段取り作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042920" y="260280"/>
            <a:ext cx="1440000" cy="10796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2627280" y="728640"/>
            <a:ext cx="719280" cy="719280"/>
          </a:xfrm>
          <a:prstGeom prst="ellips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179280" y="728640"/>
            <a:ext cx="719280" cy="719280"/>
          </a:xfrm>
          <a:prstGeom prst="ellips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 flipH="1">
            <a:off x="539640" y="1087560"/>
            <a:ext cx="2448000" cy="0"/>
          </a:xfrm>
          <a:prstGeom prst="line">
            <a:avLst/>
          </a:prstGeom>
          <a:ln cap="rnd" w="63360">
            <a:solidFill>
              <a:srgbClr val="000000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977080" y="0"/>
            <a:ext cx="3166920" cy="2025720"/>
            <a:chOff x="5977080" y="0"/>
            <a:chExt cx="3166920" cy="2025720"/>
          </a:xfrm>
        </p:grpSpPr>
        <p:sp>
          <p:nvSpPr>
            <p:cNvPr id="121" name="Rectangle 4"/>
            <p:cNvSpPr/>
            <p:nvPr/>
          </p:nvSpPr>
          <p:spPr>
            <a:xfrm>
              <a:off x="6840720" y="117720"/>
              <a:ext cx="1440000" cy="10792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8425080" y="586080"/>
              <a:ext cx="718920" cy="71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5"/>
            <p:cNvSpPr/>
            <p:nvPr/>
          </p:nvSpPr>
          <p:spPr>
            <a:xfrm>
              <a:off x="5977080" y="586080"/>
              <a:ext cx="719280" cy="71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 flipH="1">
              <a:off x="6337440" y="944640"/>
              <a:ext cx="2448000" cy="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5"/>
            <p:cNvSpPr/>
            <p:nvPr/>
          </p:nvSpPr>
          <p:spPr>
            <a:xfrm>
              <a:off x="5977080" y="0"/>
              <a:ext cx="719280" cy="71928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5"/>
            <p:cNvSpPr/>
            <p:nvPr/>
          </p:nvSpPr>
          <p:spPr>
            <a:xfrm>
              <a:off x="8425080" y="0"/>
              <a:ext cx="718920" cy="71928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H="1">
              <a:off x="6337440" y="358920"/>
              <a:ext cx="2448000" cy="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6337440" y="370080"/>
              <a:ext cx="0" cy="57456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6"/>
            <p:cNvSpPr/>
            <p:nvPr/>
          </p:nvSpPr>
          <p:spPr>
            <a:xfrm>
              <a:off x="6840720" y="1881360"/>
              <a:ext cx="1441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7"/>
            <p:cNvSpPr/>
            <p:nvPr/>
          </p:nvSpPr>
          <p:spPr>
            <a:xfrm>
              <a:off x="6840720" y="1305000"/>
              <a:ext cx="0" cy="72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>
              <a:off x="8282160" y="1305000"/>
              <a:ext cx="0" cy="72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9"/>
            <p:cNvSpPr/>
            <p:nvPr/>
          </p:nvSpPr>
          <p:spPr>
            <a:xfrm>
              <a:off x="7281360" y="15138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6697800" y="1089000"/>
              <a:ext cx="0" cy="9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6337440" y="1881360"/>
              <a:ext cx="352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9"/>
            <p:cNvSpPr/>
            <p:nvPr/>
          </p:nvSpPr>
          <p:spPr>
            <a:xfrm>
              <a:off x="6267960" y="151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97800" y="188136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334600" y="2060640"/>
            <a:ext cx="3819960" cy="2736720"/>
            <a:chOff x="2334600" y="2060640"/>
            <a:chExt cx="3819960" cy="2736720"/>
          </a:xfrm>
        </p:grpSpPr>
        <p:sp>
          <p:nvSpPr>
            <p:cNvPr id="138" name="Rectangle 4"/>
            <p:cNvSpPr/>
            <p:nvPr/>
          </p:nvSpPr>
          <p:spPr>
            <a:xfrm>
              <a:off x="3851280" y="2889360"/>
              <a:ext cx="1440000" cy="10792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"/>
            <p:cNvSpPr/>
            <p:nvPr/>
          </p:nvSpPr>
          <p:spPr>
            <a:xfrm>
              <a:off x="5435640" y="3357720"/>
              <a:ext cx="718920" cy="71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"/>
            <p:cNvSpPr/>
            <p:nvPr/>
          </p:nvSpPr>
          <p:spPr>
            <a:xfrm>
              <a:off x="2987640" y="3357720"/>
              <a:ext cx="719280" cy="71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 flipH="1">
              <a:off x="3348000" y="3716280"/>
              <a:ext cx="2448000" cy="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"/>
            <p:cNvSpPr/>
            <p:nvPr/>
          </p:nvSpPr>
          <p:spPr>
            <a:xfrm>
              <a:off x="2987640" y="2771640"/>
              <a:ext cx="719280" cy="71928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>
              <a:off x="5435640" y="2771640"/>
              <a:ext cx="718920" cy="71928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1"/>
            <p:cNvSpPr/>
            <p:nvPr/>
          </p:nvSpPr>
          <p:spPr>
            <a:xfrm flipH="1">
              <a:off x="3348000" y="3130560"/>
              <a:ext cx="2448000" cy="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348000" y="3141720"/>
              <a:ext cx="0" cy="57456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3851280" y="4653000"/>
              <a:ext cx="1441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7"/>
            <p:cNvSpPr/>
            <p:nvPr/>
          </p:nvSpPr>
          <p:spPr>
            <a:xfrm>
              <a:off x="3851280" y="4076640"/>
              <a:ext cx="0" cy="72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>
              <a:off x="5292720" y="4076640"/>
              <a:ext cx="0" cy="72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9"/>
            <p:cNvSpPr/>
            <p:nvPr/>
          </p:nvSpPr>
          <p:spPr>
            <a:xfrm>
              <a:off x="4291920" y="42854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7"/>
            <p:cNvSpPr/>
            <p:nvPr/>
          </p:nvSpPr>
          <p:spPr>
            <a:xfrm>
              <a:off x="3708360" y="3860640"/>
              <a:ext cx="0" cy="9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>
              <a:off x="3348000" y="4653000"/>
              <a:ext cx="352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9"/>
            <p:cNvSpPr/>
            <p:nvPr/>
          </p:nvSpPr>
          <p:spPr>
            <a:xfrm>
              <a:off x="3278520" y="4285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8360" y="465300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7"/>
            <p:cNvSpPr/>
            <p:nvPr/>
          </p:nvSpPr>
          <p:spPr>
            <a:xfrm>
              <a:off x="5438880" y="3860640"/>
              <a:ext cx="0" cy="9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6"/>
            <p:cNvSpPr/>
            <p:nvPr/>
          </p:nvSpPr>
          <p:spPr>
            <a:xfrm>
              <a:off x="5435640" y="4646520"/>
              <a:ext cx="352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9"/>
            <p:cNvSpPr/>
            <p:nvPr/>
          </p:nvSpPr>
          <p:spPr>
            <a:xfrm>
              <a:off x="5569200" y="4285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86240" y="465300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"/>
            <p:cNvSpPr/>
            <p:nvPr/>
          </p:nvSpPr>
          <p:spPr>
            <a:xfrm>
              <a:off x="3852720" y="3321000"/>
              <a:ext cx="1440000" cy="21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334600" y="3129120"/>
              <a:ext cx="942120" cy="618840"/>
              <a:chOff x="2334600" y="3129120"/>
              <a:chExt cx="942120" cy="618840"/>
            </a:xfrm>
          </p:grpSpPr>
          <p:sp>
            <p:nvSpPr>
              <p:cNvPr id="160" name="Line 6"/>
              <p:cNvSpPr/>
              <p:nvPr/>
            </p:nvSpPr>
            <p:spPr>
              <a:xfrm>
                <a:off x="2700360" y="3129120"/>
                <a:ext cx="0" cy="618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7"/>
              <p:cNvSpPr/>
              <p:nvPr/>
            </p:nvSpPr>
            <p:spPr>
              <a:xfrm flipH="1">
                <a:off x="2556000" y="312912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8"/>
              <p:cNvSpPr/>
              <p:nvPr/>
            </p:nvSpPr>
            <p:spPr>
              <a:xfrm flipH="1">
                <a:off x="2556000" y="373536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9"/>
              <p:cNvSpPr/>
              <p:nvPr/>
            </p:nvSpPr>
            <p:spPr>
              <a:xfrm rot="16200000">
                <a:off x="2301840" y="324504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3323160" y="2066040"/>
              <a:ext cx="433800" cy="942120"/>
              <a:chOff x="3323160" y="2066040"/>
              <a:chExt cx="433800" cy="942120"/>
            </a:xfrm>
          </p:grpSpPr>
          <p:sp>
            <p:nvSpPr>
              <p:cNvPr id="165" name="Line 6"/>
              <p:cNvSpPr/>
              <p:nvPr/>
            </p:nvSpPr>
            <p:spPr>
              <a:xfrm flipH="1">
                <a:off x="3347640" y="2432160"/>
                <a:ext cx="374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7"/>
              <p:cNvSpPr/>
              <p:nvPr/>
            </p:nvSpPr>
            <p:spPr>
              <a:xfrm flipV="1">
                <a:off x="3720960" y="2287440"/>
                <a:ext cx="0" cy="72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8"/>
              <p:cNvSpPr/>
              <p:nvPr/>
            </p:nvSpPr>
            <p:spPr>
              <a:xfrm flipV="1">
                <a:off x="3360600" y="2287440"/>
                <a:ext cx="0" cy="72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9"/>
              <p:cNvSpPr/>
              <p:nvPr/>
            </p:nvSpPr>
            <p:spPr>
              <a:xfrm>
                <a:off x="3323160" y="206604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5398200" y="2066040"/>
              <a:ext cx="433800" cy="942120"/>
              <a:chOff x="5398200" y="2066040"/>
              <a:chExt cx="433800" cy="942120"/>
            </a:xfrm>
          </p:grpSpPr>
          <p:sp>
            <p:nvSpPr>
              <p:cNvPr id="170" name="Line 6"/>
              <p:cNvSpPr/>
              <p:nvPr/>
            </p:nvSpPr>
            <p:spPr>
              <a:xfrm flipH="1">
                <a:off x="5422680" y="2432160"/>
                <a:ext cx="374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7"/>
              <p:cNvSpPr/>
              <p:nvPr/>
            </p:nvSpPr>
            <p:spPr>
              <a:xfrm flipV="1">
                <a:off x="5796000" y="2287440"/>
                <a:ext cx="0" cy="72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8"/>
              <p:cNvSpPr/>
              <p:nvPr/>
            </p:nvSpPr>
            <p:spPr>
              <a:xfrm flipV="1">
                <a:off x="5435640" y="2287440"/>
                <a:ext cx="0" cy="72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9"/>
              <p:cNvSpPr/>
              <p:nvPr/>
            </p:nvSpPr>
            <p:spPr>
              <a:xfrm>
                <a:off x="5398200" y="206604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851280" y="2060640"/>
              <a:ext cx="1438200" cy="647640"/>
            </a:xfrm>
            <a:prstGeom prst="wedgeRectCallout">
              <a:avLst>
                <a:gd name="adj1" fmla="val 44370"/>
                <a:gd name="adj2" fmla="val 141912"/>
              </a:avLst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オーバーラップ量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m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6803280" y="-243000"/>
            <a:ext cx="3242160" cy="3019320"/>
            <a:chOff x="6803280" y="-243000"/>
            <a:chExt cx="3242160" cy="3019320"/>
          </a:xfrm>
        </p:grpSpPr>
        <p:sp>
          <p:nvSpPr>
            <p:cNvPr id="176" name="Line 6"/>
            <p:cNvSpPr/>
            <p:nvPr/>
          </p:nvSpPr>
          <p:spPr>
            <a:xfrm flipV="1">
              <a:off x="9901080" y="831600"/>
              <a:ext cx="0" cy="144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7"/>
            <p:cNvSpPr/>
            <p:nvPr/>
          </p:nvSpPr>
          <p:spPr>
            <a:xfrm>
              <a:off x="9324720" y="226368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9324720" y="83304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 rot="16200000">
              <a:off x="9509040" y="1366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"/>
            <p:cNvSpPr/>
            <p:nvPr/>
          </p:nvSpPr>
          <p:spPr>
            <a:xfrm>
              <a:off x="7812000" y="831600"/>
              <a:ext cx="1440000" cy="14414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7668360" y="1448280"/>
              <a:ext cx="1728720" cy="7207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72" y="0"/>
                  </a:lnTo>
                  <a:lnTo>
                    <a:pt x="21600" y="10800"/>
                  </a:lnTo>
                  <a:lnTo>
                    <a:pt x="1847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5400000">
              <a:off x="8080200" y="-150840"/>
              <a:ext cx="904680" cy="72072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044" y="0"/>
                  </a:lnTo>
                  <a:lnTo>
                    <a:pt x="21600" y="10800"/>
                  </a:lnTo>
                  <a:lnTo>
                    <a:pt x="15044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6806520" y="183960"/>
              <a:ext cx="1726200" cy="1008000"/>
              <a:chOff x="6806520" y="183960"/>
              <a:chExt cx="1726200" cy="1008000"/>
            </a:xfrm>
          </p:grpSpPr>
          <p:sp>
            <p:nvSpPr>
              <p:cNvPr id="184" name="Line 7"/>
              <p:cNvSpPr/>
              <p:nvPr/>
            </p:nvSpPr>
            <p:spPr>
              <a:xfrm flipH="1">
                <a:off x="7020000" y="83160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7"/>
              <p:cNvSpPr/>
              <p:nvPr/>
            </p:nvSpPr>
            <p:spPr>
              <a:xfrm flipH="1">
                <a:off x="7020000" y="688680"/>
                <a:ext cx="151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6"/>
              <p:cNvSpPr/>
              <p:nvPr/>
            </p:nvSpPr>
            <p:spPr>
              <a:xfrm>
                <a:off x="7164360" y="183960"/>
                <a:ext cx="0" cy="496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9"/>
              <p:cNvSpPr/>
              <p:nvPr/>
            </p:nvSpPr>
            <p:spPr>
              <a:xfrm rot="16200000">
                <a:off x="6837120" y="155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164360" y="688680"/>
                <a:ext cx="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6"/>
              <p:cNvSpPr/>
              <p:nvPr/>
            </p:nvSpPr>
            <p:spPr>
              <a:xfrm>
                <a:off x="7164360" y="839520"/>
                <a:ext cx="0" cy="35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7"/>
            <p:cNvSpPr/>
            <p:nvPr/>
          </p:nvSpPr>
          <p:spPr>
            <a:xfrm flipH="1">
              <a:off x="7016760" y="2415960"/>
              <a:ext cx="1084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 flipH="1">
              <a:off x="7016400" y="2273040"/>
              <a:ext cx="72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7161120" y="1768320"/>
              <a:ext cx="0" cy="49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9"/>
            <p:cNvSpPr/>
            <p:nvPr/>
          </p:nvSpPr>
          <p:spPr>
            <a:xfrm rot="16200000">
              <a:off x="6833880" y="1739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61120" y="227304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6"/>
            <p:cNvSpPr/>
            <p:nvPr/>
          </p:nvSpPr>
          <p:spPr>
            <a:xfrm>
              <a:off x="7161120" y="242388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842560" y="1633680"/>
            <a:ext cx="3242160" cy="3388680"/>
            <a:chOff x="2842560" y="1633680"/>
            <a:chExt cx="3242160" cy="3388680"/>
          </a:xfrm>
        </p:grpSpPr>
        <p:sp>
          <p:nvSpPr>
            <p:cNvPr id="197" name="Line 6"/>
            <p:cNvSpPr/>
            <p:nvPr/>
          </p:nvSpPr>
          <p:spPr>
            <a:xfrm flipV="1">
              <a:off x="5940360" y="2708280"/>
              <a:ext cx="0" cy="144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5364000" y="414036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8"/>
            <p:cNvSpPr/>
            <p:nvPr/>
          </p:nvSpPr>
          <p:spPr>
            <a:xfrm>
              <a:off x="5364000" y="270972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 rot="16200000">
              <a:off x="5548320" y="3242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4"/>
            <p:cNvSpPr/>
            <p:nvPr/>
          </p:nvSpPr>
          <p:spPr>
            <a:xfrm>
              <a:off x="3851280" y="2708280"/>
              <a:ext cx="1440000" cy="14414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3707640" y="3324960"/>
              <a:ext cx="1728720" cy="7207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72" y="0"/>
                  </a:lnTo>
                  <a:lnTo>
                    <a:pt x="21600" y="10800"/>
                  </a:lnTo>
                  <a:lnTo>
                    <a:pt x="1847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400000">
              <a:off x="4119480" y="1725480"/>
              <a:ext cx="904680" cy="72072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044" y="0"/>
                  </a:lnTo>
                  <a:lnTo>
                    <a:pt x="21600" y="10800"/>
                  </a:lnTo>
                  <a:lnTo>
                    <a:pt x="15044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45800" y="2060640"/>
              <a:ext cx="1726200" cy="1008000"/>
              <a:chOff x="2845800" y="2060640"/>
              <a:chExt cx="1726200" cy="1008000"/>
            </a:xfrm>
          </p:grpSpPr>
          <p:sp>
            <p:nvSpPr>
              <p:cNvPr id="205" name="Line 7"/>
              <p:cNvSpPr/>
              <p:nvPr/>
            </p:nvSpPr>
            <p:spPr>
              <a:xfrm flipH="1">
                <a:off x="3059280" y="270828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7"/>
              <p:cNvSpPr/>
              <p:nvPr/>
            </p:nvSpPr>
            <p:spPr>
              <a:xfrm flipH="1">
                <a:off x="3059280" y="2565360"/>
                <a:ext cx="151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6"/>
              <p:cNvSpPr/>
              <p:nvPr/>
            </p:nvSpPr>
            <p:spPr>
              <a:xfrm>
                <a:off x="3203640" y="2060640"/>
                <a:ext cx="0" cy="496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9"/>
              <p:cNvSpPr/>
              <p:nvPr/>
            </p:nvSpPr>
            <p:spPr>
              <a:xfrm rot="16200000">
                <a:off x="2876400" y="2032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203640" y="2565360"/>
                <a:ext cx="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6"/>
              <p:cNvSpPr/>
              <p:nvPr/>
            </p:nvSpPr>
            <p:spPr>
              <a:xfrm>
                <a:off x="3203640" y="2716200"/>
                <a:ext cx="0" cy="35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Line 7"/>
            <p:cNvSpPr/>
            <p:nvPr/>
          </p:nvSpPr>
          <p:spPr>
            <a:xfrm flipH="1">
              <a:off x="3056040" y="4292640"/>
              <a:ext cx="1084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 flipH="1">
              <a:off x="3055680" y="4149720"/>
              <a:ext cx="72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"/>
            <p:cNvSpPr/>
            <p:nvPr/>
          </p:nvSpPr>
          <p:spPr>
            <a:xfrm>
              <a:off x="3200400" y="3645000"/>
              <a:ext cx="0" cy="49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 rot="16200000">
              <a:off x="2873160" y="3616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00400" y="414972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6"/>
            <p:cNvSpPr/>
            <p:nvPr/>
          </p:nvSpPr>
          <p:spPr>
            <a:xfrm>
              <a:off x="3200400" y="430056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7"/>
            <p:cNvSpPr/>
            <p:nvPr/>
          </p:nvSpPr>
          <p:spPr>
            <a:xfrm flipH="1">
              <a:off x="3416400" y="4576680"/>
              <a:ext cx="1084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 rot="16200000">
              <a:off x="3222000" y="4671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60760" y="4292640"/>
              <a:ext cx="0" cy="28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3560760" y="458460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6"/>
            <p:cNvSpPr/>
            <p:nvPr/>
          </p:nvSpPr>
          <p:spPr>
            <a:xfrm>
              <a:off x="3559320" y="4005360"/>
              <a:ext cx="0" cy="28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2842560" y="1341360"/>
            <a:ext cx="3242160" cy="3681000"/>
            <a:chOff x="2842560" y="1341360"/>
            <a:chExt cx="3242160" cy="3681000"/>
          </a:xfrm>
        </p:grpSpPr>
        <p:sp>
          <p:nvSpPr>
            <p:cNvPr id="223" name="Line 6"/>
            <p:cNvSpPr/>
            <p:nvPr/>
          </p:nvSpPr>
          <p:spPr>
            <a:xfrm flipV="1">
              <a:off x="5940360" y="2708280"/>
              <a:ext cx="0" cy="144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7"/>
            <p:cNvSpPr/>
            <p:nvPr/>
          </p:nvSpPr>
          <p:spPr>
            <a:xfrm>
              <a:off x="5364000" y="414036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8"/>
            <p:cNvSpPr/>
            <p:nvPr/>
          </p:nvSpPr>
          <p:spPr>
            <a:xfrm>
              <a:off x="5364000" y="270972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9"/>
            <p:cNvSpPr/>
            <p:nvPr/>
          </p:nvSpPr>
          <p:spPr>
            <a:xfrm rot="16200000">
              <a:off x="5548320" y="3242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4"/>
            <p:cNvSpPr/>
            <p:nvPr/>
          </p:nvSpPr>
          <p:spPr>
            <a:xfrm>
              <a:off x="3851280" y="2708280"/>
              <a:ext cx="1440000" cy="14414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5400000">
              <a:off x="3707640" y="3324960"/>
              <a:ext cx="1728720" cy="7207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72" y="0"/>
                  </a:lnTo>
                  <a:lnTo>
                    <a:pt x="21600" y="10800"/>
                  </a:lnTo>
                  <a:lnTo>
                    <a:pt x="1847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4119480" y="1433520"/>
              <a:ext cx="905040" cy="72072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044" y="0"/>
                  </a:lnTo>
                  <a:lnTo>
                    <a:pt x="21600" y="10800"/>
                  </a:lnTo>
                  <a:lnTo>
                    <a:pt x="15044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845800" y="1763640"/>
              <a:ext cx="1726200" cy="1305000"/>
              <a:chOff x="2845800" y="1763640"/>
              <a:chExt cx="1726200" cy="1305000"/>
            </a:xfrm>
          </p:grpSpPr>
          <p:sp>
            <p:nvSpPr>
              <p:cNvPr id="231" name="Line 7"/>
              <p:cNvSpPr/>
              <p:nvPr/>
            </p:nvSpPr>
            <p:spPr>
              <a:xfrm flipH="1">
                <a:off x="3059280" y="270828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"/>
              <p:cNvSpPr/>
              <p:nvPr/>
            </p:nvSpPr>
            <p:spPr>
              <a:xfrm flipH="1">
                <a:off x="3059280" y="2268360"/>
                <a:ext cx="151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6"/>
              <p:cNvSpPr/>
              <p:nvPr/>
            </p:nvSpPr>
            <p:spPr>
              <a:xfrm>
                <a:off x="3203640" y="1763640"/>
                <a:ext cx="0" cy="496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9"/>
              <p:cNvSpPr/>
              <p:nvPr/>
            </p:nvSpPr>
            <p:spPr>
              <a:xfrm rot="16200000">
                <a:off x="2876400" y="17348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203640" y="2276640"/>
                <a:ext cx="0" cy="431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6"/>
              <p:cNvSpPr/>
              <p:nvPr/>
            </p:nvSpPr>
            <p:spPr>
              <a:xfrm>
                <a:off x="3203640" y="2716200"/>
                <a:ext cx="0" cy="35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Line 7"/>
            <p:cNvSpPr/>
            <p:nvPr/>
          </p:nvSpPr>
          <p:spPr>
            <a:xfrm flipH="1">
              <a:off x="3056040" y="4292640"/>
              <a:ext cx="1084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7"/>
            <p:cNvSpPr/>
            <p:nvPr/>
          </p:nvSpPr>
          <p:spPr>
            <a:xfrm flipH="1">
              <a:off x="3055680" y="4149720"/>
              <a:ext cx="72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"/>
            <p:cNvSpPr/>
            <p:nvPr/>
          </p:nvSpPr>
          <p:spPr>
            <a:xfrm>
              <a:off x="3200400" y="3645000"/>
              <a:ext cx="0" cy="49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9"/>
            <p:cNvSpPr/>
            <p:nvPr/>
          </p:nvSpPr>
          <p:spPr>
            <a:xfrm rot="16200000">
              <a:off x="2873160" y="3616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00400" y="414972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6"/>
            <p:cNvSpPr/>
            <p:nvPr/>
          </p:nvSpPr>
          <p:spPr>
            <a:xfrm>
              <a:off x="3200400" y="430056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 flipH="1">
              <a:off x="3416400" y="4576680"/>
              <a:ext cx="1084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9"/>
            <p:cNvSpPr/>
            <p:nvPr/>
          </p:nvSpPr>
          <p:spPr>
            <a:xfrm rot="16200000">
              <a:off x="3222000" y="4671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60760" y="4292640"/>
              <a:ext cx="0" cy="28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6"/>
            <p:cNvSpPr/>
            <p:nvPr/>
          </p:nvSpPr>
          <p:spPr>
            <a:xfrm>
              <a:off x="3560760" y="458460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6"/>
            <p:cNvSpPr/>
            <p:nvPr/>
          </p:nvSpPr>
          <p:spPr>
            <a:xfrm>
              <a:off x="3559320" y="4005360"/>
              <a:ext cx="0" cy="28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169920" y="3059280"/>
            <a:ext cx="7208640" cy="1809720"/>
            <a:chOff x="169920" y="3059280"/>
            <a:chExt cx="7208640" cy="1809720"/>
          </a:xfrm>
        </p:grpSpPr>
        <p:sp>
          <p:nvSpPr>
            <p:cNvPr id="249" name=""/>
            <p:cNvSpPr/>
            <p:nvPr/>
          </p:nvSpPr>
          <p:spPr>
            <a:xfrm>
              <a:off x="896760" y="3429000"/>
              <a:ext cx="36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78200" y="3429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57480" y="3429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38560" y="3429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19640" y="3429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00720" y="3429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00000" y="4510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81080" y="4510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56040" y="4510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37120" y="4510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18200" y="4510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99280" y="4510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9920" y="305928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58920" y="3068640"/>
              <a:ext cx="71928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40000" y="3068640"/>
              <a:ext cx="71928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29000" y="3068640"/>
              <a:ext cx="71928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00720" y="3068640"/>
              <a:ext cx="71892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89720" y="3068640"/>
              <a:ext cx="71892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59640" y="3068640"/>
              <a:ext cx="71892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58920" y="4149720"/>
              <a:ext cx="71928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40000" y="4149720"/>
              <a:ext cx="71928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29000" y="4149720"/>
              <a:ext cx="71928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00720" y="4149720"/>
              <a:ext cx="71892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89720" y="4149720"/>
              <a:ext cx="71892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59640" y="4149720"/>
              <a:ext cx="71892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971640" y="549360"/>
            <a:ext cx="7202520" cy="1800000"/>
            <a:chOff x="971640" y="549360"/>
            <a:chExt cx="7202520" cy="1800000"/>
          </a:xfrm>
        </p:grpSpPr>
        <p:sp>
          <p:nvSpPr>
            <p:cNvPr id="275" name=""/>
            <p:cNvSpPr/>
            <p:nvPr/>
          </p:nvSpPr>
          <p:spPr>
            <a:xfrm>
              <a:off x="1689120" y="9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70200" y="9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49840" y="9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92720" y="54936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30920" y="9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73800" y="54936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12000" y="9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54880" y="54936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93080" y="9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54160" y="163044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92360" y="199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35240" y="163044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73440" y="199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10200" y="163044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199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91280" y="163044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29120" y="199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72360" y="163044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10200" y="199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53440" y="163044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91280" y="199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32000" y="54936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1000" y="54936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60640" y="54936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71640" y="54936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4:38:10Z</dcterms:created>
  <dc:creator>ポリテクセンター静岡</dc:creator>
  <dc:description/>
  <dc:language>en-US</dc:language>
  <cp:lastModifiedBy>ポリテクセンター静岡</cp:lastModifiedBy>
  <dcterms:modified xsi:type="dcterms:W3CDTF">2011-08-01T04:19:17Z</dcterms:modified>
  <cp:revision>21</cp:revision>
  <dc:subject/>
  <dc:title>スライド 1</dc:title>
</cp:coreProperties>
</file>