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F8F-B876-432C-A29C-3C7AD9D9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3C9-9809-411C-9F30-5BA091A3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4BF-6851-4F0D-B239-47AE0391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989-B6AB-494A-8433-49AE2189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AE7-0C1E-4005-866C-F72E01CF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7AD-0CF4-4341-B773-5DD92766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8DF-B9F8-4A04-8DE5-20A22A77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378-1DEE-494C-9B2E-F300569E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C4D-76C0-474B-A215-B927FF38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F54-7EDD-484B-A15A-489448DC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4E8-4EBF-471B-BBE9-9314E43D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245-0CD1-4B8D-A0E6-C4493013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D28-B6E6-4EA7-A946-3AFFB781D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116000" y="671400"/>
          <a:ext cx="655308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71400"/>
                    <a:ext cx="655308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rcRect l="23202" t="0" r="23218" b="0"/>
          <a:stretch/>
        </p:blipFill>
        <p:spPr>
          <a:xfrm>
            <a:off x="1571760" y="-189000"/>
            <a:ext cx="6000480" cy="72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4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3:25:51Z</dcterms:created>
  <dc:creator>テクニカルマネジメント07</dc:creator>
  <dc:description/>
  <dc:language>en-US</dc:language>
  <cp:lastModifiedBy>mcad12</cp:lastModifiedBy>
  <dcterms:modified xsi:type="dcterms:W3CDTF">2011-07-11T03:06:44Z</dcterms:modified>
  <cp:revision>12</cp:revision>
  <dc:subject/>
  <dc:title>スライド 1</dc:title>
</cp:coreProperties>
</file>