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690-827C-4D46-B720-9D7E81B4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79E-9ACB-4E71-9E3B-B3903750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11D-4A07-4D64-8492-8B5AA094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420-1BDC-401C-AAC1-54777070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596-E96D-4AD8-9CE3-BA8354E5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FBB-87BE-4BE5-ACBC-3521C81F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A02-81E1-4866-A449-5A471F8A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3B4-9BEB-4E88-B280-DE0C873B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369-EBF1-4973-A213-A02B7DE7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712-39E2-4160-85C2-62D9211F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C46-3A7B-4C7C-BDB4-29BAB76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F83-242B-4240-96D5-434DA0CB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1C3A-AAA2-4F52-B26E-27373A333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116000" y="671400"/>
          <a:ext cx="655308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71400"/>
                    <a:ext cx="655308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"/>
          <p:cNvPicPr/>
          <p:nvPr/>
        </p:nvPicPr>
        <p:blipFill>
          <a:blip r:embed="rId1"/>
          <a:srcRect l="23202" t="0" r="23218" b="0"/>
          <a:stretch/>
        </p:blipFill>
        <p:spPr>
          <a:xfrm>
            <a:off x="1571760" y="-189000"/>
            <a:ext cx="6000480" cy="72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4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290520" y="871560"/>
          <a:ext cx="85629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871560"/>
                    <a:ext cx="85629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3:25:51Z</dcterms:created>
  <dc:creator>テクニカルマネジメント07</dc:creator>
  <dc:description/>
  <dc:language>en-US</dc:language>
  <cp:lastModifiedBy>mcad12</cp:lastModifiedBy>
  <dcterms:modified xsi:type="dcterms:W3CDTF">2011-07-11T03:06:44Z</dcterms:modified>
  <cp:revision>12</cp:revision>
  <dc:subject/>
  <dc:title>スライド 1</dc:title>
</cp:coreProperties>
</file>